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96A2-8BDB-4D48-AA4D-BC8BF43A1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30E-D6AF-4CDE-AEC4-E7A40B03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C05E-9B39-42CA-9B1A-9A61B2E54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EBC-6179-4FF8-BAEA-200AB855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C8B6-34C2-4BA9-8AD7-F4478B7D1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4BC6-65CB-466F-9BD8-9CD746884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36D1F-6DE0-426E-995A-4FE92EB4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D263-4A50-4868-B0D7-756E9FAB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9EA16-ABEF-44CE-9006-006D8293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B07D9-F5A9-430F-9A80-1AEA279E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1DC2B-42B9-45F3-A312-2FFAF813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20A6-9626-4744-B070-2D2C6B99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72B59-5B25-42F9-B158-DB75D241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61CE3-2326-44A6-9BC4-34604D77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BD861-829E-4EE5-A0B3-47E04170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3807-A9E7-4A82-BB86-4B8E6C6C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13796-D38A-45DF-B7FC-EE6AB4DE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0942-05DA-4EB4-B48B-2E40BCEF4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798-70D6-4979-9780-8613C4CF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A8B5-F4CB-4111-B293-0E2166FA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BF1D-DD44-468F-9529-8636BDC4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5E28-B949-4D06-96BF-662B5363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D94D-16F9-4219-A4E2-0AE37EB3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F9E5-436D-458C-899F-F398DBF9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6AC97-0ACE-46D2-92B4-29193BF83ED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DD2A-3932-481E-B9B8-412BADB6131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forklift.ru/img/kat/katalog100128pp.jpg&amp;imgrefurl=http://www.forklift.ru/%3Fpage%3Dcat%26top%3D100042&amp;h=200&amp;w=200&amp;sz=44&amp;hl=ru&amp;start=17&amp;tbnid=p04Ufsq4ubPDGM:&amp;tbnh=104&amp;tbnw=104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u/imgres?imgurl=http://bast.ru/bastion/help/risunki/jurris.gif&amp;imgrefurl=http://bast.ru/bastion/help/stat_juravlev_akb.htm&amp;h=179&amp;w=250&amp;sz=22&amp;hl=ru&amp;start=20&amp;tbnid=zEAGC-Y-xJfrwM:&amp;tbnh=79&amp;tbnw=111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98984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ытовые отходы.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сор-проблема век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519280" y="2349360"/>
            <a:ext cx="662472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копление твердых бытовых отходов в современном городе достигает 250-300 кг на человека в год, а ежегодное увеличение отходов на душу населения составляет 4-6%, что в 3 раза превышает скорость роста насе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187308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России разработана технология по механизированному извлечению из твердых бытовых отходов шести компонент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ных металло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ловосодержащего лом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юми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кулатуры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имерной плен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щевых отход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 энер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середины 70-х годов ХХв. в разгар мирового энергетического кризиса на твердые бытовые отходы стали смотреть как на дополнительный сырьевой источник энергии - тепло отходящих газов, образующихся при сжигании мусора, можно утилизировать: пять тонн мусора равны тонне условного топли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6920" y="4797360"/>
            <a:ext cx="2592720" cy="433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716280"/>
            <a:ext cx="2521080" cy="43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2924280"/>
            <a:ext cx="2160720" cy="433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стема раздельного сбора мус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b8b7d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Германии батареи мусорных бочек у домов выкрашены в три цвета: серые, желтые, зелены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ер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несут старые газеты, журналы и картонные короб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желт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выбрасывают банки, бутылки полимерную и бумажную, а также частично металлическую упаков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еле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а предназначена для биоразлагаемых отходов пищевого происхождения, которые позже будут переработаны в компост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ледствия мусорного загрязнени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лассификация бытовых отход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ы удаления и переработки бытового мусора в современных городах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ое исследование: «Не слишком ли много мы используем упаковок?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ие акции: «Чистый подъезд», «Ель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валки существенно влияют на все компоненты окружающей природной среды и являются мощным загрязнителем атмосферного воздуха, почвы и грунтовых вод .Эти свалки являются, кроме того, еще рассадниками мышей, крыс, насекомых и могут стать источником инфекционных заболеваний, особенно в южных районах стра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45600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5783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08360" y="2779560"/>
            <a:ext cx="5168880" cy="3461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582588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400" y="1341360"/>
            <a:ext cx="87692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обенно опасным является ртутное загрязн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астоящее время в стране ежегодно идет в отходы около 200 млн. штук люминесцентных и дугоразрядных ламп. В каждой лампе содержится от 80 до 120 мг рту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3433680" cy="2575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3284640"/>
            <a:ext cx="547344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 меньшую опасность представляют ртутьсодержащие электрические батарейки. В электрических батарейках содержание ртути достигает 300 мг. В целом по нашей стране попадают на свалки десятки тонн рт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инцовые аккумуляторы для автомобилей – в среднем в каждом аккумуляторе содержится от 8,5 до 9,5 кг свин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933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860640"/>
            <a:ext cx="2303640" cy="1640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3933720"/>
            <a:ext cx="1679400" cy="16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пидемиологическая опас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к, например, в Ленинградской области на свалке были выявлены зараженные бешенством лисицы, что привело к необходимости проведения дорогостоящих профилактических мероприят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се твердые отходы городов заражены разнообразными насекомыми и гельмин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мире зарегистрировано уже заражение детей СПИДом, связанное с игрой последних с медицинскими отходами, попавшими в бытовые контейне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вердые бытовые отходы в городах содержат значительное количество разнообразных токсичных веществ и материалов. Примерно 4% отходов являются токсичны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 наименований токсичных соединений и среди них - красители, пестициды, ртуть и ее соединения, растворители, свинец и его соли, лекарства, кадмий, мышьяковистые соединения, формальдегид, соли таллия 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обое место среди твердых отходов занимают пластмассы и синтетические материалы, так как они не подвергаются процессам биологического разрушения и могут длительное время (десятки лет) находиться в объектах окружающей среды. При горении пластмасс и синтетических материалов выделяются многочисленные токсические я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блемы удаления и переработки бытового мусора в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овременных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городах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7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вое "мусоросжигательное заведение" было построено еще в 1870 году близ Лондон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ейчас в мире действуют более 1000 мусоросжигательных заво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нашей стране первый мусоросжигательный завод был построен только в 1972 году, то есть через 102 года после появления в мире перв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6:49:11Z</dcterms:created>
  <dc:creator>09</dc:creator>
  <dc:description/>
  <dc:language>en-US</dc:language>
  <cp:lastModifiedBy>admin</cp:lastModifiedBy>
  <dcterms:modified xsi:type="dcterms:W3CDTF">2007-01-21T19:45:50Z</dcterms:modified>
  <cp:revision>12</cp:revision>
  <dc:subject/>
  <dc:title>Бытовые отходы. Мусор-проблема века. </dc:title>
</cp:coreProperties>
</file>